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FCF44-25F6-488D-8E39-64DECAAADC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372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372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372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372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372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372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372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372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D5D8D-7717-4745-B7F5-667E7CE0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58761-A12D-494D-8CA1-F08B81B0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992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48567-BCD6-4F8B-B865-4CDCBA3B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712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668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712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668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E06CD-069D-43DD-9F0F-98164E41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8FAF-EB42-404F-AD9D-4B318B3A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2FB6-6485-4E81-BEC9-D384170E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7146-3831-4673-BB40-0A13AAC5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57E9-1481-44F1-8D86-1194009E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D4E8-65BD-422C-8A39-E40678D2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168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1000"/>
              </a:lnSpc>
              <a:spcBef>
                <a:spcPts val="8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E197-5212-4BC8-BF2B-A1423838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F7FB-F74A-499E-A11D-CC284180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2060F-B553-478E-ACF4-1D8C0B56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C556-4F9E-4F81-B09A-B37A4118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CA78-9F18-4541-AD97-26E4AB08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6833-F6CE-4F0B-8D24-9BF8DB4B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45D9-BA9C-4C38-9B9C-F16360A7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712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668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712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668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8EED-9F39-466A-811D-37CBEB44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AF628-1C5A-4D7F-A859-E9BA4CED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BA0E2-DF47-4F81-9976-0F5463EC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F6152-E90A-4B2C-B2F3-FE155B9C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168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1000"/>
              </a:lnSpc>
              <a:spcBef>
                <a:spcPts val="8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8DDF8-CF7E-4221-888E-C8E1CA96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64503-39AA-489D-B5EF-2225EE97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992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B516D-7D90-491B-B645-5C07AF86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51E75-D191-4B6E-98D3-DED9A9E9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275D1-3D7D-4CCB-89BC-9E73FF86635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2560" cy="544680"/>
            <a:chOff x="0" y="0"/>
            <a:chExt cx="9142560" cy="5446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1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29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28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7880"/>
              <a:ext cx="136440" cy="136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1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1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5280"/>
            <a:ext cx="2125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644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5600" cy="3156120"/>
              <a:chOff x="0" y="1066680"/>
              <a:chExt cx="2865600" cy="315612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128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4680" y="168912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79520" y="1066680"/>
                <a:ext cx="58608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39760" y="3581280"/>
                <a:ext cx="58428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79520" y="1689120"/>
                <a:ext cx="58608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39760" y="2322360"/>
                <a:ext cx="584280" cy="6336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2360"/>
                <a:ext cx="582480" cy="6336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4680" y="2322360"/>
                <a:ext cx="574560" cy="6336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6240"/>
                <a:ext cx="576360" cy="6447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39760" y="2946240"/>
                <a:ext cx="584280" cy="6447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C1B0F-03EE-461F-A6E9-7F29F2021F9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2000" cy="22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1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1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tributed Computing Semin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14360" y="2280960"/>
            <a:ext cx="8229600" cy="2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cture 3: Distributed File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2880" y="5140080"/>
            <a:ext cx="822960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1000"/>
              </a:lnSpc>
              <a:spcBef>
                <a:spcPts val="8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ristophe Bisciglia, Aaron Kimball, &amp; Sierra Michels-Slettv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8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ogle, Inc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mm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12920" y="5772240"/>
            <a:ext cx="635940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cept as otherwise noted, the content of this presentation is © Copyright University of Washington and licensed under the Creative Commons Attribution 2.5 Licen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814320"/>
            <a:ext cx="82310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FS: Tradeof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FS Volume managed by singl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er load on centra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ifies coherency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1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POSIX system means it “drops in” very easily, but isn’t “great” for any specific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38080" y="2333520"/>
            <a:ext cx="8153640" cy="18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The Google File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njay Ghemawat, Howard Gobioff,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Shun-Tak Le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OSP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5400720"/>
            <a:ext cx="807696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hese slides by Alex Moshchuk, University of Washington – used with permi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Google needed a good distributed file sys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ndant storage of massive amounts of data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ap and unreliable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hy not use an existing file system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gle’s problems are different from anyone else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t workload and design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FS is designed for Google apps and work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gle apps are designed for G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igh component failure r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expensive commodity components fail all the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st” number of HUGE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ust a few mill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ach is 100MB or larger; multi-GB files typ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les are write-once, mostly appended 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erhaps concurr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rge streaming rea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igh sustained throughput favored over low lat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FS 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les stored as chu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xed size (64M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liability through re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ch chunk replicated across 3+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chunkser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ngle master to coordinate access, keep meta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e centralize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data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ittle benefit due to large data sets, streaming re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amiliar interface, but customize the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ify the problem; focus on Google ap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snapshot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cord append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FS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04920" y="2581200"/>
            <a:ext cx="8582040" cy="32860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gl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iple chunk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6095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an anyone see a potential weakness in this de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ngl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4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rom distributed systems we know this is a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ability bottle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4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GFS solution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dow ma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ize master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ver move data through it, use only for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4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cache metadata at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rge chunk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ter delegates authority to primary replicas in data mutations (chunk le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4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Simple, and good enough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tadata (1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Global metadata is stored on the mast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le and chunk name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from files to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tions of each chunk’s rep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3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ll in memory (64 bytes / chunk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sily 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tadata (2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aster has an </a:t>
            </a:r>
            <a:r>
              <a:rPr b="0" i="1" lang="en-GB" sz="2900" spc="-1" strike="noStrike">
                <a:solidFill>
                  <a:srgbClr val="000000"/>
                </a:solidFill>
                <a:latin typeface="Arial"/>
              </a:rPr>
              <a:t>operation log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for persistent logging of critical metadata updat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istent on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points for faster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447920"/>
            <a:ext cx="8458200" cy="51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utation = write or appe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Font typeface="Wingdings" charset="2"/>
              <a:buChar char="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must be done for all rep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Goal: minimize master involv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ease mechanism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Font typeface="Wingdings" charset="2"/>
              <a:buChar char="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ster picks one replica a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imary; gives it a “lease”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for m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Font typeface="Wingdings" charset="2"/>
              <a:buChar char="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imary defines a serial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order of m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Font typeface="Wingdings" charset="2"/>
              <a:buChar char="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all replicas follow this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ata flow decoupled from</a:t>
            </a:r>
            <a:br>
              <a:rPr sz="2900"/>
            </a:b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952880" y="2895480"/>
            <a:ext cx="4038840" cy="34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systems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FS (Network File Syste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FS (Google File Sy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tomic record app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lient specifies dat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3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GFS appends it to the file atomically at least o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FS picks the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 for concurrent wri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3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d heavily by Google app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, for files that serve as multiple-producer/single-consumer que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laxed consistency model (1/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4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istent” = all replicas have the same valu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4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efined” = replica reflects the mutation, consisten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4000"/>
              </a:lnSpc>
              <a:spcBef>
                <a:spcPts val="72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4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Some propertie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urrent writes leave region consistent, but possibly undef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iled writes leave the region in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4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4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Some work has moved into the application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, self-validating, self-identifying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laxed consistency model (2/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4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Simple, effici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gle apps can live wit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bout other ap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4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4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Namespace updates atomic and serializa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4000"/>
              </a:lnSpc>
              <a:spcBef>
                <a:spcPts val="72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ster’s responsibilities (1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etadata stor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Namespace management/lock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eriodic communication with chunkserv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ve instructions, collect state, track cluster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hunk creation, re-replication, rebalanc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lance space utilization and acces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read replicas across racks to reduce correlated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-replicate data if redundancy falls below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balance data to smooth out storage and request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ster’s responsibilities (2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er, more reliable than traditional file de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ter logs the deletion, renames the file to a hidde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zily garbage collects hidden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3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Stale replica dele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ct “stale” replicas using chunk version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st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ter and chunkservers restartable in a few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unk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ault: 3 replica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dow ma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3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sum every 64KB block in each ch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76520" y="3871800"/>
            <a:ext cx="5867280" cy="2681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676520" y="1219320"/>
            <a:ext cx="586728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ployment in Goo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any GFS clust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undreds/thousands of storage nodes eac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anaging petabytes of dat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GFS is under BigTable, etc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GFS demonstrates how to support large-scale processing workloads on commodity hardwar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 to tolerate frequent component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e for huge files that are mostly appended and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el free to relax and extend FS interface a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 for simple solutions (e.g., single ma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GFS has met Google’s storage needs… it must be good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Time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Start learning about algorithms for distributed comput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lustering Algorith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814320"/>
            <a:ext cx="82310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esystem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 that permanently stor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ually layered on top of a lower-level physical storage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vided into logical units called “fi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ressable by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ilename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“foo.txt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ually supports hierarchical nesting (directo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fil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a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s file &amp; directory names into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lati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bsolu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ddress to identify a file (“/home/aaron/foo.tx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814320"/>
            <a:ext cx="82310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tributed File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3104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ccess to files on remote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t support con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varying guarantees about locking, who “wins” with concurrent writes, etc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gracefully handle dropped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offer support for replication and local c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implementations sit in different places on complexity/feature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814320"/>
            <a:ext cx="82310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F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3104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developed in 1980s by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ed with standard UNIX FS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drives ar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mounte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o local directory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814320"/>
            <a:ext cx="82310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FS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31040" cy="30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ly completely stat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ated over UDP; did not use TCP st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le locking, etc., implemented in higher-level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rn implementations use TCP/IP &amp; stateful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81432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rver-side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3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FS defines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virtual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 not actually manage local disk layout on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 instantiates NFS volume on top of local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l hard drives managed by concrete file systems (EXT, ReiserFS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networked FS's mounted in by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95280" y="4800600"/>
          <a:ext cx="6707160" cy="18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800600"/>
                    <a:ext cx="6707160" cy="18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814320"/>
            <a:ext cx="82310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FS Lo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310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FS v4 supports stateful locking of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ients inform server of intent to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 can notify clients of outstanding lock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king is lease-based: clients must continually renew locks before a time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ss of contact with server abandons 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814320"/>
            <a:ext cx="82310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FS Client Ca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FS Clients are allowed to cache copies of remote files for subsequent a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lose-to-ope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che 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client A closes a file, its contents are synchronized with the master, and timestamp is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client B opens the file, it checks that local timestamp agrees with server timestamp. If not, it discards local co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reader/writers must use flags to disable c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hebert</dc:creator>
  <dc:description/>
  <dc:language>en-US</dc:language>
  <cp:lastModifiedBy>Google</cp:lastModifiedBy>
  <cp:revision>0</cp:revision>
  <dc:subject/>
  <dc:title>Lecture 5</dc:title>
</cp:coreProperties>
</file>